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1266-C080-4F53-AF71-353622E1CB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міст розділу презентації «Фінансове забезпечення судової системи України у 2013 році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308-DF7A-46F6-996C-389F022B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011-BE4E-4262-8860-24A24BBA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30-0782-439F-8B82-09C329D7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51F-E04D-4B7F-B966-68C8AAC3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E2B-24D3-49A8-8B3F-3BC4913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7D9-3A5F-408A-B052-96DAB71B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AC0-751F-4A53-A1D2-907E109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08B-05A2-4812-8879-D87FD890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50B-422C-4205-B9A7-11B49D6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A4C-94CA-4175-9C27-022AB3F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485-EC1C-478A-8B72-FBFFEF88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117-20DB-4039-9573-F942613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4ED-0C46-4DDD-BBDE-FAD7089771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502-5F28-4B09-8ADA-0E1A42275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79FB-34FB-4B0B-A3C3-1C7EA47C19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C75-87F8-4144-89AE-4808599AAD8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734320" cy="6351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58840" y="1293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164240" y="404640"/>
            <a:ext cx="752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чення/граничні обсяги на 2014 рік т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374360" y="1494000"/>
            <a:ext cx="415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/зменшення 2015 року до 2014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272320" y="133812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84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3814920" y="434340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583600" y="393372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7494480" y="4343400"/>
            <a:ext cx="639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084560" y="2133720"/>
            <a:ext cx="446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чення на 2014 рік    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267,7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Граничні обсяги на 2015 рік </a:t>
            </a:r>
            <a:r>
              <a:rPr b="1" lang="uk-UA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                       38,8 млн грн (0,9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C43-D03A-4681-8F11-0268EE673FC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91240" y="189000"/>
            <a:ext cx="83966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фактичної середньої заробітної пл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апаратів судів із середніми показ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сфери державного управлі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У «Про судоустрій і статус суддів» ст. 144 ч.1. Розмір заробітної плати працівників апаратів судів, Державної судової адміністрації Україн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ої школи суддів України, їхнє побутове забезпечення і рівень соціального захисту визначаються зако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 не можуть бути меншими, ніж у відповідних категорій державних службовців органів законодавчої та виконавчої влад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98880" y="1916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799280" y="4005360"/>
            <a:ext cx="82080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3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17760" y="400536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666480" y="407664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B3E-3E42-453E-842A-EF62682DF0F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2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542520" y="17589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72880" y="333360"/>
            <a:ext cx="6644160" cy="94716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ростання мінімальної заробітної пл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 посадового окладу судд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680560" y="3213000"/>
            <a:ext cx="109368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1 г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248800" y="1666800"/>
            <a:ext cx="11149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705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5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979640" y="1666800"/>
            <a:ext cx="282420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видат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14 рік  3 585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5 рік  3 401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Зменшення 184,0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або на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,4%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142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605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БЮДЖЕТНИЙ ЗАПИТ </a:t>
            </a:r>
            <a:br>
              <a:rPr sz="6000"/>
            </a:b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на 2015 рі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7"/>
          <p:cNvGrpSpPr/>
          <p:nvPr/>
        </p:nvGrpSpPr>
        <p:grpSpPr>
          <a:xfrm>
            <a:off x="108000" y="189000"/>
            <a:ext cx="8928000" cy="1428840"/>
            <a:chOff x="108000" y="189000"/>
            <a:chExt cx="8928000" cy="142884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4053960" y="189000"/>
              <a:ext cx="103608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9"/>
            <p:cNvSpPr/>
            <p:nvPr/>
          </p:nvSpPr>
          <p:spPr>
            <a:xfrm>
              <a:off x="108000" y="1546560"/>
              <a:ext cx="8928000" cy="71280"/>
            </a:xfrm>
            <a:prstGeom prst="rect">
              <a:avLst/>
            </a:prstGeom>
            <a:solidFill>
              <a:srgbClr val="092991"/>
            </a:solidFill>
            <a:ln w="19080">
              <a:solidFill>
                <a:srgbClr val="021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Номер слайда 2"/>
          <p:cNvSpPr/>
          <p:nvPr/>
        </p:nvSpPr>
        <p:spPr>
          <a:xfrm>
            <a:off x="8774280" y="6437160"/>
            <a:ext cx="36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340-3EF3-48C8-86CC-61D679A3A5E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158640" y="58420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Інформація представлена без врахування показ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Р Крим та м. Севастополь за 2013, 2014 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C1B5-86A3-4DBB-A9A7-D63F9369190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30120" y="15177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124360" y="1517760"/>
            <a:ext cx="366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року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357000" y="2133720"/>
            <a:ext cx="86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76400" y="2133720"/>
            <a:ext cx="101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3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8721720" y="6492960"/>
            <a:ext cx="4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350-C019-44ED-81E7-09B5B84F07A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410840" y="260280"/>
            <a:ext cx="66668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видат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33280" y="12682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04000" y="1409760"/>
            <a:ext cx="190188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 РАЗОМ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13 рік -   8 750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4 рік -   9 056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2015 рік - 10 70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897280" y="2276640"/>
            <a:ext cx="4857480" cy="192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/зменшення до попереднього ро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до 2013          2015 до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,5%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752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2,1%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,4%   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,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чні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81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20,2%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53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13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італьні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8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,7%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8774280" y="6524640"/>
            <a:ext cx="369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DD1A-AECA-488D-BB99-56023B5B6F4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26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4880" y="14684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360080" y="46368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івень задоволення бюджетного зап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270160" y="2292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02520" y="22050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0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806880" y="16844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1978560" y="1514520"/>
            <a:ext cx="3443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207960" y="40053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6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513040" y="3992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,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7698960" y="4108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6D57-598F-4273-A5D3-C4DCF667DF2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11280" y="260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/граничні обся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жерел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27960" y="1457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198160" y="1457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02520" y="1441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735240" y="14256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834920" y="1074600"/>
            <a:ext cx="51886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до попереднього року, млн грн /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18560" y="270828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43620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405960" y="153360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801400" y="152892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827680" y="256536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81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85396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8810640" y="6564240"/>
            <a:ext cx="333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2D1-20A4-4D2D-95AE-5BEC74D7A8A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467640" y="465120"/>
            <a:ext cx="8288280" cy="825480"/>
          </a:xfrm>
          <a:prstGeom prst="rect">
            <a:avLst/>
          </a:prstGeom>
          <a:solidFill>
            <a:srgbClr val="b3ebff"/>
          </a:solidFill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задоволення потреби на 2015 рік граничними обс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прямк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8840" y="1536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838520" y="1711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2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10880" y="4950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663280" y="1670040"/>
            <a:ext cx="3385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360320" y="50133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160680" y="4861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7,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7889040" y="51195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342-9DD3-41A5-8C91-28D339C2C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6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34320" cy="6353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29760" y="9478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47880" y="299880"/>
            <a:ext cx="76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рямування граничних обсягів видатків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фінансування у розрізі фон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724360" y="1557360"/>
            <a:ext cx="28702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                  4 30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льний фонд 3 41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іальний фонд 890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03D-7632-4F77-B4A3-1F0831183E4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572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28680" y="11667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30720" y="33660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Забезпечення потреби граничними обсягами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4729320" y="1492200"/>
            <a:ext cx="3536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Потреба 10 407,6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ничні обсяги 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1:43:55Z</dcterms:created>
  <dc:creator>chekryzheva</dc:creator>
  <dc:description/>
  <dc:language>en-US</dc:language>
  <cp:lastModifiedBy>ignatchenko</cp:lastModifiedBy>
  <cp:lastPrinted>2014-08-07T11:36:12Z</cp:lastPrinted>
  <dcterms:modified xsi:type="dcterms:W3CDTF">2014-08-14T06:31:13Z</dcterms:modified>
  <cp:revision>175</cp:revision>
  <dc:subject/>
  <dc:title>Презентация PowerPoint</dc:title>
</cp:coreProperties>
</file>