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31A3-5485-4783-B42A-404821F99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міст розділу презентації «Фінансове забезпечення судової системи України у 2013 році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DB4-DD38-4229-9DE8-1A86732E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ED9A-81AE-490E-906B-09E82CA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B27-1AAC-473B-9A37-4895D102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2E6-78F7-4953-BA70-95A20A20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0E3-4581-487B-9196-26B44993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ABC-FE72-4F54-95EA-96EAD64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B5E-0FAF-4B3F-A069-0EBEC89C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C21-3285-4779-BFC2-052F0C0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363-77C6-4023-98EE-F4523532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2A0-645D-4CD9-A7F0-F15BDFB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7EA-BD96-4F56-B2BE-BFB60DE8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749-0320-459F-B90F-71C515C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2FE1-2B94-4DA9-95A6-D4B806443A0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1487-EECD-4DBC-BDD4-A74C6AC76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B409-882A-4664-81DA-4E509D82C6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183C-4398-4F64-B835-DE2217F516C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734320" cy="6351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58840" y="1293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1164240" y="404640"/>
            <a:ext cx="7524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чення/граничні обсяги на 2014 рік т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374360" y="1494000"/>
            <a:ext cx="415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/зменшення 2015 року до 2014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2272320" y="1338120"/>
            <a:ext cx="7066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84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3814920" y="434340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,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5583600" y="3933720"/>
            <a:ext cx="537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7494480" y="4343400"/>
            <a:ext cx="6393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084560" y="2133720"/>
            <a:ext cx="446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значення на 2014 рік      </a:t>
            </a: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 267,7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Граничні обсяги на 2015 рік </a:t>
            </a:r>
            <a:r>
              <a:rPr b="1" lang="uk-UA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іст                        38,8 млн грн (0,9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B941-1B7B-4A2F-AEA3-D226AF257D9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91240" y="189000"/>
            <a:ext cx="839664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івняння фактичної середньої заробітної пл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апаратів судів із середніми показ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цівників сфери державного управлін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У «Про судоустрій і статус суддів» ст. 144 ч.1. Розмір заробітної плати працівників апаратів судів, Державної судової адміністрації Україн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ціональної школи суддів України, їхнє побутове забезпечення і рівень соціального захисту визначаються зако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 не можуть бути меншими, ніж у відповідних категорій державних службовців органів законодавчої та виконавчої влади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98880" y="19162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799280" y="4005360"/>
            <a:ext cx="82080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3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217760" y="400536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6666480" y="4076640"/>
            <a:ext cx="813240" cy="946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иц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3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D567-26F9-4601-998F-D7FF1F46C13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26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542520" y="17589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172880" y="333360"/>
            <a:ext cx="6644160" cy="947160"/>
          </a:xfrm>
          <a:prstGeom prst="rect">
            <a:avLst/>
          </a:prstGeom>
          <a:solidFill>
            <a:srgbClr val="e6e0ec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ростання мінімальної заробітної пл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 посадового окладу судд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2680560" y="3213000"/>
            <a:ext cx="1093680" cy="1008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41 гр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5248800" y="1666800"/>
            <a:ext cx="11149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6 705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бо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</a:t>
            </a: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5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979640" y="1666800"/>
            <a:ext cx="282420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видат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014 рік  3 585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5 рік  3 401,2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Зменшення 184,0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або на</a:t>
            </a: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5,4%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14240" y="6488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6058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БЮДЖЕТНИЙ ЗАПИТ </a:t>
            </a:r>
            <a:br>
              <a:rPr sz="6000"/>
            </a:br>
            <a:r>
              <a:rPr b="1" lang="uk-UA" sz="6000" spc="-1" strike="noStrike">
                <a:solidFill>
                  <a:srgbClr val="071f6d"/>
                </a:solidFill>
                <a:latin typeface="Garamond"/>
              </a:rPr>
              <a:t>на 2015 рі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Группа 17"/>
          <p:cNvGrpSpPr/>
          <p:nvPr/>
        </p:nvGrpSpPr>
        <p:grpSpPr>
          <a:xfrm>
            <a:off x="108000" y="189000"/>
            <a:ext cx="8928000" cy="1428840"/>
            <a:chOff x="108000" y="189000"/>
            <a:chExt cx="8928000" cy="142884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4053960" y="189000"/>
              <a:ext cx="103608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Прямоугольник 9"/>
            <p:cNvSpPr/>
            <p:nvPr/>
          </p:nvSpPr>
          <p:spPr>
            <a:xfrm>
              <a:off x="108000" y="1546560"/>
              <a:ext cx="8928000" cy="71280"/>
            </a:xfrm>
            <a:prstGeom prst="rect">
              <a:avLst/>
            </a:prstGeom>
            <a:solidFill>
              <a:srgbClr val="092991"/>
            </a:solidFill>
            <a:ln w="19080">
              <a:solidFill>
                <a:srgbClr val="0210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Номер слайда 2"/>
          <p:cNvSpPr/>
          <p:nvPr/>
        </p:nvSpPr>
        <p:spPr>
          <a:xfrm>
            <a:off x="8774280" y="6437160"/>
            <a:ext cx="369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AF3-212D-4775-A1FD-DC0EB61A411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158640" y="58420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Інформація представлена без врахування показни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Р Крим та м. Севастополь за 2013, 2014 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97E-F1CF-44E8-9C69-9C2CED6ECE4A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Диаграмма 4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330120" y="15177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124360" y="1517760"/>
            <a:ext cx="366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року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357000" y="2133720"/>
            <a:ext cx="86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76400" y="2133720"/>
            <a:ext cx="1018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Диаграмма 3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9" name="Номер слайда 4"/>
          <p:cNvSpPr/>
          <p:nvPr/>
        </p:nvSpPr>
        <p:spPr>
          <a:xfrm>
            <a:off x="8721720" y="6492960"/>
            <a:ext cx="442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272-8B29-4B88-ADEF-56A24F7B65F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410840" y="260280"/>
            <a:ext cx="66668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потреби у бюджетних кош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видат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33280" y="126828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04000" y="1409760"/>
            <a:ext cx="190188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а РАЗОМ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13 рік -   8 750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14 рік -   9 056 млн грн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2015 рік - 10 70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897280" y="2276640"/>
            <a:ext cx="4857480" cy="192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/зменшення до попереднього рок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до 2013          2015 до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uk-UA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н грн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іальні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5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,5%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752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2,1%                    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ьні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,4%   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,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чні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281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20,2%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53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13,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італьні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8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4,7%                      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3"/>
          <p:cNvSpPr/>
          <p:nvPr/>
        </p:nvSpPr>
        <p:spPr>
          <a:xfrm>
            <a:off x="8774280" y="6524640"/>
            <a:ext cx="369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CDE-42EB-4457-BF7E-CE62DE458A3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263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/>
          <p:cNvSpPr/>
          <p:nvPr/>
        </p:nvSpPr>
        <p:spPr>
          <a:xfrm>
            <a:off x="254880" y="146844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360080" y="463680"/>
            <a:ext cx="74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івень задоволення бюджетного зап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2270160" y="22924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7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502520" y="22050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05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6806880" y="16844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7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1978560" y="1514520"/>
            <a:ext cx="3443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207960" y="40053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6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513040" y="39924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,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7698960" y="41083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0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9380-3D82-4347-9E56-C985AB616B0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734680" cy="6499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611280" y="260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/граничні обся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жерел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27960" y="14572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198160" y="14572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02520" y="144144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735240" y="14256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1834920" y="1074600"/>
            <a:ext cx="518868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до попереднього року, млн грн / 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3418560" y="270828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43620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405960" y="153360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801400" y="1528920"/>
            <a:ext cx="604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827680" y="2565360"/>
            <a:ext cx="604440" cy="824040"/>
          </a:xfrm>
          <a:prstGeom prst="rect">
            <a:avLst/>
          </a:prstGeom>
          <a:solidFill>
            <a:srgbClr val="b3ebff"/>
          </a:solidFill>
          <a:ln w="9360">
            <a:solidFill>
              <a:srgbClr val="81d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853960" y="3933720"/>
            <a:ext cx="604440" cy="824040"/>
          </a:xfrm>
          <a:prstGeom prst="rect">
            <a:avLst/>
          </a:prstGeom>
          <a:solidFill>
            <a:srgbClr val="facef5"/>
          </a:solidFill>
          <a:ln w="9360">
            <a:solidFill>
              <a:srgbClr val="ef57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3"/>
          <p:cNvSpPr/>
          <p:nvPr/>
        </p:nvSpPr>
        <p:spPr>
          <a:xfrm>
            <a:off x="8810640" y="6564240"/>
            <a:ext cx="3333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4FC8-4ECF-4D9C-9FBE-75CC53855B9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Диаграмма 2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467640" y="465120"/>
            <a:ext cx="8288280" cy="825480"/>
          </a:xfrm>
          <a:prstGeom prst="rect">
            <a:avLst/>
          </a:prstGeom>
          <a:solidFill>
            <a:srgbClr val="b3ebff"/>
          </a:solidFill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ень задоволення потреби на 2015 рік граничними обся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прямками фінансув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258840" y="153684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838520" y="1711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2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10880" y="4950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663280" y="1670040"/>
            <a:ext cx="3385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івень задоволення потреби,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360320" y="50133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160680" y="48610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7,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7889040" y="51195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,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82648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898-65DD-438A-815A-6753D4A86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6" descr=""/>
          <p:cNvPicPr/>
          <p:nvPr/>
        </p:nvPicPr>
        <p:blipFill>
          <a:blip r:embed="rId1"/>
          <a:stretch/>
        </p:blipFill>
        <p:spPr>
          <a:xfrm>
            <a:off x="244440" y="255600"/>
            <a:ext cx="8734320" cy="63532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329760" y="9478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47880" y="299880"/>
            <a:ext cx="762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рямування граничних обсягів видатків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напрямками фінансування у розрізі фон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5724360" y="1557360"/>
            <a:ext cx="287028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                  4 30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гальний фонд 3 416,5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іальний фонд 890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84556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117B-766F-4509-9D35-7914E3309C9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Диаграмма 4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5721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328680" y="11667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630720" y="33660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Забезпечення потреби граничними обсягами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4729320" y="1492200"/>
            <a:ext cx="3536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Потреба 10 407,6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ничні обсяги 4 306,5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1:43:55Z</dcterms:created>
  <dc:creator>chekryzheva</dc:creator>
  <dc:description/>
  <dc:language>en-US</dc:language>
  <cp:lastModifiedBy>ignatchenko</cp:lastModifiedBy>
  <cp:lastPrinted>2014-08-07T11:36:12Z</cp:lastPrinted>
  <dcterms:modified xsi:type="dcterms:W3CDTF">2014-08-14T06:31:13Z</dcterms:modified>
  <cp:revision>175</cp:revision>
  <dc:subject/>
  <dc:title>Презентация PowerPoint</dc:title>
</cp:coreProperties>
</file>